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E42-677F-4CB4-AA5E-87F399C1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4B5-8ECA-412A-B6CA-75B7F826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D98-828F-4389-B898-A67EFA17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E02-B7C5-47EA-91C0-0BFD39B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464-44A6-4F61-9C07-CD354502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4AB-4214-437E-9FB1-896084D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85E-5EEC-486D-8068-D0B00282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1C4-EEF9-4FBC-9ECD-FE46EE0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9B7-4A20-4CBA-BFE3-60155B0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571-6DFC-4DA8-9F62-3B0A8D4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B80-D75A-4337-8B1E-B8DE9784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924-293D-441B-B98B-6D46955B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004-5DA1-4D11-8126-FC182A01A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080" y="477720"/>
          <a:ext cx="8859600" cy="6270480"/>
        </p:xfrm>
        <a:graphic>
          <a:graphicData uri="http://schemas.openxmlformats.org/drawingml/2006/table">
            <a:tbl>
              <a:tblPr/>
              <a:tblGrid>
                <a:gridCol w="129996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46080"/>
            <a:ext cx="8832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35140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43164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本框 1"/>
          <p:cNvSpPr/>
          <p:nvPr/>
        </p:nvSpPr>
        <p:spPr>
          <a:xfrm>
            <a:off x="395280" y="6043680"/>
            <a:ext cx="829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本人承诺本表所填写的内容真实、准确，无弄虚作假。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承诺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21-05-20T03:49:2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9DE3B31119C46B49BC30753699B7FA5</vt:lpwstr>
  </property>
  <property fmtid="{D5CDD505-2E9C-101B-9397-08002B2CF9AE}" pid="3" name="KSOProductBuildVer">
    <vt:lpwstr>2052-11.1.0.10495</vt:lpwstr>
  </property>
</Properties>
</file>