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EEA7-0C2E-4756-ACD9-2DAFDAA25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C96C-DD78-453C-9A6B-D93455A16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352C-F223-4DEC-BC5C-0AB744860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89D6-043A-4877-94CB-AB5E4F252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DB6D-0382-4392-BD0C-628FD0B1B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0376-7080-4D66-8BC6-DC2152597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72B8-C28A-4AF1-849A-0AADC6D58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704D-9C86-48A8-93EA-AEE56252E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EB93-160B-4EC6-BB82-35EB6194A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D1CB-0DFE-43FE-A341-1931E544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7740-B97B-4E02-8933-772AFD18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C5E6-8892-4FC2-AE71-0C4C316E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EB42F-B884-4A17-82DC-1CF20397E2C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440" y="330120"/>
          <a:ext cx="8859960" cy="6426360"/>
        </p:xfrm>
        <a:graphic>
          <a:graphicData uri="http://schemas.openxmlformats.org/drawingml/2006/table">
            <a:tbl>
              <a:tblPr/>
              <a:tblGrid>
                <a:gridCol w="1300320"/>
                <a:gridCol w="904680"/>
                <a:gridCol w="208080"/>
                <a:gridCol w="769680"/>
                <a:gridCol w="1135080"/>
                <a:gridCol w="1301760"/>
                <a:gridCol w="862200"/>
                <a:gridCol w="733320"/>
                <a:gridCol w="208080"/>
                <a:gridCol w="1436760"/>
              </a:tblGrid>
              <a:tr h="334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姓 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张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性 别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出生年月（岁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XX.07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岁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4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照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必填，底色无限。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民 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汉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籍 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惠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出 生 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惠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6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入 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时 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XX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参加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作时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XX.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个人身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公务员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事业干部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干部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工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032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专业技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职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资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助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工程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健康状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健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1163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电话号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1163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5XX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6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身  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.65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体  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8k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1163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婚姻状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1163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未婚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已婚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离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1163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个人特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7920" indent="-1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打篮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学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学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全日制教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高中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中专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大专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大学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硕士、博士研究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毕业院校系及专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除高中学历外，其他的学历均须写明毕业院校系和专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在职教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大专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大学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硕士、博士研究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毕业院校系及专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须写明毕业院校系和专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原单位职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现工作单位及职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拟调单位职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拟调工作单位及职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61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日期格式：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06.09—2010.09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，每条简历不需要“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..”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等序号标注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从大中专教育经历开始写起，高中毕业的从参加工作开始写起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简历中的每条记录须保持时间连续性，不可有间断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工作期间参加了再教育的，须在当条简历后写明：例子：（其间：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12.09—2014.07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参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大学行政管理专业大专班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本科班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硕士研究生班学习并毕业）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当条工作经历期间另有工作记录的，须在当条简历后写明：例子：（其间：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14.03—2014.07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借调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单位工作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单位跟班学习等）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简历中的工作单位须写全称，或规范性简称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Rectangle 62"/>
          <p:cNvSpPr/>
          <p:nvPr/>
        </p:nvSpPr>
        <p:spPr>
          <a:xfrm>
            <a:off x="179280" y="-19080"/>
            <a:ext cx="8832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方正小标宋_GBK"/>
                <a:ea typeface="方正小标宋_GBK"/>
              </a:rPr>
              <a:t>个人基本情况表（本人保证以下填写资料真实，无弄虚作假。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66560" y="692280"/>
          <a:ext cx="8196120" cy="5406840"/>
        </p:xfrm>
        <a:graphic>
          <a:graphicData uri="http://schemas.openxmlformats.org/drawingml/2006/table">
            <a:tbl>
              <a:tblPr/>
              <a:tblGrid>
                <a:gridCol w="636480"/>
                <a:gridCol w="706680"/>
                <a:gridCol w="946080"/>
                <a:gridCol w="1039680"/>
                <a:gridCol w="996840"/>
                <a:gridCol w="1055880"/>
                <a:gridCol w="2814480"/>
              </a:tblGrid>
              <a:tr h="304920">
                <a:tc rowSpan="9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家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情况（及在仲恺区工作的重要社会关系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关 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姓  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出生日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政治面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籍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工作（学习）单位及职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丈夫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妻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88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群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惠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例子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在什么单位任职什么职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儿子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女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13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群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惠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例子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学龄前儿童（如已上学，写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学校学生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父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66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中共党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惠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例子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原工作单位及职务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(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已退休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已故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母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66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群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博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例子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惠州市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区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镇服装个体经营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岳父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公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66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群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惠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例子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什么公司什么职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岳母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婆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66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群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龙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例子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什么地址家庭主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哥哥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姐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80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群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惠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例子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惠州市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区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镇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村务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叔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70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中共党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惠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例子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惠州市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区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局局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住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请填写目前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居住地址，如：惠州市惠城区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街道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号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小区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栋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室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1:12:52Z</dcterms:created>
  <dc:creator>Tian</dc:creator>
  <dc:description/>
  <dc:language>en-US</dc:language>
  <cp:lastModifiedBy>Administrator</cp:lastModifiedBy>
  <dcterms:modified xsi:type="dcterms:W3CDTF">2019-11-20T07:56:25Z</dcterms:modified>
  <cp:revision>4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698</vt:lpwstr>
  </property>
</Properties>
</file>