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11E0-F55B-4F63-8AA0-33D8B38C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D4F0-98C0-4C1A-B5BD-ADD1F11F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64DE-C297-43F7-A6FA-61DAF5F7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736-7EAD-4038-B397-51F5DFCC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790B-4D10-490E-9433-1F9FED06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180A-1EE4-475F-9F2E-1EB19F82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635A-5E51-4135-8193-8B122E7E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8C68-3F4A-4436-AF6E-6B3B0349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CB3D-039D-42E5-AC1E-8EE42C92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2ECF-1564-40E2-88C5-1906116D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7342-FB57-4508-B33F-D843FE77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D4D-D1A5-4EAE-81ED-F3089B76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8D5F-D13E-4D23-B0F7-2CE069C217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330120"/>
          <a:ext cx="8859960" cy="6426360"/>
        </p:xfrm>
        <a:graphic>
          <a:graphicData uri="http://schemas.openxmlformats.org/drawingml/2006/table">
            <a:tbl>
              <a:tblPr/>
              <a:tblGrid>
                <a:gridCol w="1300320"/>
                <a:gridCol w="904680"/>
                <a:gridCol w="208080"/>
                <a:gridCol w="769680"/>
                <a:gridCol w="1135080"/>
                <a:gridCol w="1301760"/>
                <a:gridCol w="862200"/>
                <a:gridCol w="733320"/>
                <a:gridCol w="208080"/>
                <a:gridCol w="1436760"/>
              </a:tblGrid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 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年月（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XX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必填，底色无限。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民 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汉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 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 生 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入 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 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XX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作时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XX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身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公务员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事业干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干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专业技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职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资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助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程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话号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5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身  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.6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体  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k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婚姻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未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离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特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7920" indent="-1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打篮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全日制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高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、博士研究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除高中学历外，其他的学历均须写明毕业院校系和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职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、博士研究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须写明毕业院校系和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原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现工作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工作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日期格式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06.09—2010.09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，每条简历不需要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.”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等序号标注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从大中专教育经历开始写起，高中毕业的从参加工作开始写起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简历中的每条记录须保持时间连续性，不可有间断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工作期间参加了再教育的，须在当条简历后写明：例子：（其间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2.09—2014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学行政管理专业大专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本科班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硕士研究生班学习并毕业）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当条工作经历期间另有工作记录的，须在当条简历后写明：例子：（其间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4.03—2014.0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借调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位工作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单位跟班学习等）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简历中的工作单位须写全称，或规范性简称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Rectangle 62"/>
          <p:cNvSpPr/>
          <p:nvPr/>
        </p:nvSpPr>
        <p:spPr>
          <a:xfrm>
            <a:off x="179280" y="-19080"/>
            <a:ext cx="8832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方正小标宋_GBK"/>
                <a:ea typeface="方正小标宋_GBK"/>
              </a:rPr>
              <a:t>个人基本情况表（本人保证以下填写资料真实，无弄虚作假。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66560" y="692280"/>
          <a:ext cx="8196120" cy="5406840"/>
        </p:xfrm>
        <a:graphic>
          <a:graphicData uri="http://schemas.openxmlformats.org/drawingml/2006/table">
            <a:tbl>
              <a:tblPr/>
              <a:tblGrid>
                <a:gridCol w="636480"/>
                <a:gridCol w="706680"/>
                <a:gridCol w="946080"/>
                <a:gridCol w="1039680"/>
                <a:gridCol w="996840"/>
                <a:gridCol w="1055880"/>
                <a:gridCol w="2814480"/>
              </a:tblGrid>
              <a:tr h="304920">
                <a:tc rowSpan="9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家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情况（及在仲恺区工作的重要社会关系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关 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日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面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（学习）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丈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妻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8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在什么单位任职什么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儿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女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3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学龄前儿童（如已上学，写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校学生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父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共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原工作单位及职务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退休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已故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母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博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镇服装个体经营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岳父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公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什么公司什么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岳母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婆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66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龙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什么地址家庭主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哥哥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姐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8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群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镇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村务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叔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70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共党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广东惠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例子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惠州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局局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住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请填写目前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居住地址，如：惠州市惠城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街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号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1:12:52Z</dcterms:created>
  <dc:creator>Tian</dc:creator>
  <dc:description/>
  <dc:language>en-US</dc:language>
  <cp:lastModifiedBy>Administrator</cp:lastModifiedBy>
  <dcterms:modified xsi:type="dcterms:W3CDTF">2019-11-20T07:56:25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98</vt:lpwstr>
  </property>
</Properties>
</file>